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CE9-ABD4-49DE-BA3A-8CE1233B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284-567C-4749-BC2F-E3EA250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B67-1B63-477C-A6F7-B62F317B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CCF-819D-45EA-A8B0-8AFBE5E0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F0B-3417-4ABB-91CC-8F121F0C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993-7A2D-43DD-ABC8-4B2AA09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C73-6C65-4CC5-8C0A-630226E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F95-A25D-4AC6-B795-0AA629AE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9A3-1392-447E-8861-860BB1C1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B19-8FE3-4747-AB33-A64076B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EA0-7BA8-4C21-B3AA-16ADC3B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7D4-E335-47D8-87F3-E18111C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97EC1-E89E-4871-A7B9-5DD093F36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Cl (aq) +  Mg (s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q)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 +  Zn (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 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 +  Zn (s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 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 hydrox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l (aq) +  KOH (aq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KCl (aq)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(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 +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aq)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 ox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Cl (aq) +  CuO (s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q)    +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(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+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q)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q) + 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aq)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of acids: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17320"/>
            <a:ext cx="91440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IDS and metal carbo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Cl (aq) +  CaCO (s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q)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ionic eq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) 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g)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 ionic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q) +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s)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g)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3:38:03Z</dcterms:created>
  <dc:creator>Nico Van De Casteele</dc:creator>
  <dc:description/>
  <dc:language>en-US</dc:language>
  <cp:lastModifiedBy>Nico Van De Casteele</cp:lastModifiedBy>
  <dcterms:modified xsi:type="dcterms:W3CDTF">2014-05-05T01:12:09Z</dcterms:modified>
  <cp:revision>6</cp:revision>
  <dc:subject/>
  <dc:title>Reactions of acids: equations</dc:title>
</cp:coreProperties>
</file>